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355E-414F-4B42-93CF-BA8A666E1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HO S-100 Registry has been adopted by IMO, IALA and other international bodies as the baseline for a Common Maritime Data Structure, which is an essential requirement for the successful implementation of e-Navigation. Although e-NAV has taken the lead in this, the other Committees will need to be involved and have asked to be briefed on the implications for their work.</a:t>
            </a:r>
            <a:endParaRPr b="0" lang="en-US" sz="1200" spc="-1" strike="noStrike">
              <a:solidFill>
                <a:srgbClr val="000000"/>
              </a:solidFill>
              <a:latin typeface="Times New Roman"/>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409B-F562-4EEA-814B-A43E72CA3B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istry is made up of subordinate registers, including Product Specifications, which provide standardised methods for exchanging information.</a:t>
            </a:r>
            <a:endParaRPr b="0" lang="en-US" sz="1200" spc="-1" strike="noStrike">
              <a:solidFill>
                <a:srgbClr val="000000"/>
              </a:solidFill>
              <a:latin typeface="Times New Roman"/>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7A47-198F-4D3F-913B-72F35D2C62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his means in practice is that data exchange will be standardised between VTS authorities, AtoN service providers and hydrographic offices, between service providers and ships, and between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uld lead to generic standards for presentation and handling of information, providing familiarity and improving the effectiveness of training. </a:t>
            </a:r>
            <a:endParaRPr b="0" lang="en-US" sz="1200" spc="-1" strike="noStrike">
              <a:solidFill>
                <a:srgbClr val="000000"/>
              </a:solidFill>
              <a:latin typeface="Times New Roman"/>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BAC0-93D8-40B7-A42D-E49B4499B7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specification for AtoN Information has been developed from a spreadsheet used by AMSA to exchange information with the Australian Hydrographic Office. This was converted into a data model and provided with a a standardised data exchange format (Geography Markup Language) so that any AtoN authority can exchange information with any hydrographic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example is the Inter VTS Exchange Format, based on a data model developed in the IALA VTS Committee and using Extensible Markup Language for exchanging information between VTS Centres, allowing seamless handoff from one area to another.</a:t>
            </a:r>
            <a:endParaRPr b="0" lang="en-US" sz="1200" spc="-1" strike="noStrike">
              <a:solidFill>
                <a:srgbClr val="000000"/>
              </a:solidFill>
              <a:latin typeface="Times New Roman"/>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C649-A9DA-4BD7-85B8-F95468D68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we need to do this now? Well the e-Navigation Strategy Implementation Plan should be approved by IMO in 2014 and the process of developing  the Maritime Service Portfolios that will form the core of e-Navigation might be expected to take place during the period 2014-18. The Product Specifications that are the engines of the Maritime Service Portfolios will need to develop in parallel,  ready to implement during that time period.</a:t>
            </a:r>
            <a:endParaRPr b="0" lang="en-US" sz="1200" spc="-1" strike="noStrike">
              <a:solidFill>
                <a:srgbClr val="000000"/>
              </a:solidFill>
              <a:latin typeface="Times New Roman"/>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F69A-7CBC-472B-87CD-DB956009B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benefits can be expected for service providers as well as users and operators from standardized data exchange, including increased efficiency, fewer errors, simpler training and savings from use of common equipment.</a:t>
            </a:r>
            <a:endParaRPr b="0" lang="en-US" sz="1200" spc="-1" strike="noStrike">
              <a:solidFill>
                <a:srgbClr val="000000"/>
              </a:solidFill>
              <a:latin typeface="Times New Roman"/>
            </a:endParaRPr>
          </a:p>
        </p:txBody>
      </p:sp>
      <p:sp>
        <p:nvSpPr>
          <p:cNvPr id="1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D001-F847-4C8D-AC56-93314FE7C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mon Maritime Data Structure is essential to e-Navigation; the IHO registry has been adopted as a common bas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is leading the way, having registered with IHO as a Domain Owner for AtoNs, VTS and AIS and as a Submitting Organisation. Other organisations are likely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input for Product Specification development is significant and much of the expert knowledge will come from the Committees; there should be real benefits in terms of harmonization &amp;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2D90-C987-4B43-8AA3-5979987C35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to learn about preparing Product Specifications, there will be a Workshop here in IALA from 18-21 June. I’d be happy to answer questions, or provide more information outside the meeting. Thank you for your time. </a:t>
            </a: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23CA-9CA3-4C91-B5F1-33FD616D06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are probably aware,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B0EB-709D-44B0-B367-96DBA4D06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s of e-Navigation include facilitation of data exchange between vessels and shore, integration and presentation of information onboard and ashore, with consistent standards and interoperability.</a:t>
            </a:r>
            <a:endParaRPr b="0" lang="en-US" sz="1200" spc="-1" strike="noStrike">
              <a:solidFill>
                <a:srgbClr val="000000"/>
              </a:solidFill>
              <a:latin typeface="Times New Roman"/>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4F93-9054-4CCB-9076-3B784CD8C9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is a Common Informatio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for mariners to plan and carry out voyages, assess the navigation risk and ensure compliance with regulations, all accessible from a single integrated system.</a:t>
            </a:r>
            <a:endParaRPr b="0" lang="en-US" sz="1200" spc="-1" strike="noStrike">
              <a:solidFill>
                <a:srgbClr val="000000"/>
              </a:solidFill>
              <a:latin typeface="Times New Roman"/>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6E0B-E29D-4C54-AF7A-175565D2A1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hore-side users need information about vessels in their maritime domain, in an internationally agreed structure.</a:t>
            </a:r>
            <a:endParaRPr b="0" lang="en-US" sz="1200" spc="-1" strike="noStrike">
              <a:solidFill>
                <a:srgbClr val="000000"/>
              </a:solidFill>
              <a:latin typeface="Times New Roman"/>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6F8A-BC47-4498-9E1E-09752562D1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onal and technical services will be provided as part of this Common Maritime Data Structure.</a:t>
            </a:r>
            <a:endParaRPr b="0" lang="en-US" sz="1200" spc="-1" strike="noStrike">
              <a:solidFill>
                <a:srgbClr val="000000"/>
              </a:solidFill>
              <a:latin typeface="Times New Roman"/>
            </a:endParaRPr>
          </a:p>
        </p:txBody>
      </p:sp>
      <p:sp>
        <p:nvSpPr>
          <p:cNvPr id="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2F66-966C-4098-9D02-93FA50F55A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at structure agreed data exchange formats will be used, so that information can be collected, processed and presented in a compatible, interoperable way. These data formats will be specified in a standardized way.</a:t>
            </a:r>
            <a:endParaRPr b="0" lang="en-US" sz="1200" spc="-1" strike="noStrike">
              <a:solidFill>
                <a:srgbClr val="000000"/>
              </a:solidFill>
              <a:latin typeface="Times New Roman"/>
            </a:endParaRPr>
          </a:p>
        </p:txBody>
      </p:sp>
      <p:sp>
        <p:nvSpPr>
          <p:cNvPr id="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38FE-26B7-45E3-8FCF-1308B72341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achieve this CMDS it has been agreed that the IHO Registry for geo-spatial information will be adopted as a common baseline. This Registry provides a framework into which different applications, such as AtoNs, VTS and AIS can fit. Each of these applications will be based on a data model, as part of a product specification – the first two developed within IALA are for exchanging VTS data and AtoN Information.</a:t>
            </a:r>
            <a:endParaRPr b="0" lang="en-US" sz="1200" spc="-1" strike="noStrike">
              <a:solidFill>
                <a:srgbClr val="000000"/>
              </a:solidFill>
              <a:latin typeface="Times New Roman"/>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DC21-10AD-4E1C-A30E-2092BC2440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100 provides the data framework for the development of the next generation of ENC products, as well as other related digital products required by the hydrographic, maritime and GIS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nline registry has been established by IHO for the registration, management and maintenance of the items recognised under the S-100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has applied to establish domains within the Registry for AtoNs, VTS and AIS – others could follow. IALA will also be a Submitting Organisation, on behalf of its memb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CB8E-39DC-4090-AB24-19E1145900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FA376-41D1-4606-89DF-C613185C4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ADD1-33E2-46BB-930C-F6C06EC0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EFCB7-ADC8-4AA3-A8D5-1AF42B339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8AF18-DCD9-4926-90FB-61CF9B43B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156C-1971-4A3B-91AE-E893EBC45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AEC9-C07F-44BD-91B4-A16E3025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E0DD-624C-465A-A9D0-13BBE8D8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AC9A-414B-48A1-AD78-6865B14C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25E9-C721-4D66-B9E6-26B6768D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1ED7-97B0-4D07-A2F6-922F48E0D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D04F-F1E9-456C-87BC-ACA26BA6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6AEC-E3DC-48C2-B230-C019BA2D1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838080" y="1981080"/>
            <a:ext cx="78552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entation for IALA EEP &amp; ANM, April 2013</a:t>
            </a:r>
            <a:br>
              <a:rPr sz="5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ents of Registry</a:t>
            </a:r>
            <a:endParaRPr b="0" lang="en-US" sz="36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registry contains the following principal subordinate regist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ture Concept Dictionary (FCD)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rayal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register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duct Specifications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Producer Code registe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this means in practice</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ised methods for exchanging information</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Service providers and H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ervice providers and ship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hips</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ly, generic standards for presentation and handling of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 example:</a:t>
            </a:r>
            <a:endParaRPr b="0" lang="en-US" sz="3600" spc="-1" strike="noStrike">
              <a:solidFill>
                <a:srgbClr val="000000"/>
              </a:solidFill>
              <a:latin typeface="Arial"/>
            </a:endParaRPr>
          </a:p>
        </p:txBody>
      </p:sp>
      <p:sp>
        <p:nvSpPr>
          <p:cNvPr id="77" name=""/>
          <p:cNvSpPr txBox="1"/>
          <p:nvPr/>
        </p:nvSpPr>
        <p:spPr>
          <a:xfrm>
            <a:off x="714240" y="164304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oN Information </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eadsheet used by AMSA/AHO</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ted to Data Model (U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exchange format (G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authorities &amp; HOs</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 VTS Exchange Format (IVEF)</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model already developed</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ML data exchang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timescale</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y Implementation Plan: 20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SPs and S-100 PS: 2014-18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2018 onward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llel develop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time Service Portfol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Specif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01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the benefits?</a:t>
            </a:r>
            <a:endParaRPr b="0" lang="en-US" sz="3600" spc="-1" strike="noStrike">
              <a:solidFill>
                <a:srgbClr val="000000"/>
              </a:solidFill>
              <a:latin typeface="Arial"/>
            </a:endParaRPr>
          </a:p>
        </p:txBody>
      </p:sp>
      <p:sp>
        <p:nvSpPr>
          <p:cNvPr id="81" name=""/>
          <p:cNvSpPr txBox="1"/>
          <p:nvPr/>
        </p:nvSpPr>
        <p:spPr>
          <a:xfrm>
            <a:off x="-360" y="1557360"/>
            <a:ext cx="4498920" cy="414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r end-users, operators and service providers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tandardized exchange of information mea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wer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r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equipment/interfa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3" descr=""/>
          <p:cNvPicPr/>
          <p:nvPr/>
        </p:nvPicPr>
        <p:blipFill>
          <a:blip r:embed="rId1"/>
          <a:stretch/>
        </p:blipFill>
        <p:spPr>
          <a:xfrm>
            <a:off x="4643280" y="1857240"/>
            <a:ext cx="3886200" cy="29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Product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000" spc="-1" strike="noStrike">
                <a:solidFill>
                  <a:srgbClr val="000000"/>
                </a:solidFill>
                <a:latin typeface="Arial"/>
              </a:rPr>
              <a:t>Workshop on preparing S-100 Product Specifications</a:t>
            </a:r>
            <a:br>
              <a:rPr sz="2000"/>
            </a:br>
            <a:r>
              <a:rPr b="0" lang="en-US" sz="2000" spc="-1" strike="noStrike">
                <a:solidFill>
                  <a:srgbClr val="000000"/>
                </a:solidFill>
                <a:latin typeface="Arial"/>
              </a:rPr>
              <a:t>at IALA 18-21 June</a:t>
            </a:r>
            <a:br>
              <a:rPr sz="3200"/>
            </a:br>
            <a:endParaRPr b="0" lang="en-US" sz="2000" spc="-1" strike="noStrike">
              <a:solidFill>
                <a:srgbClr val="000000"/>
              </a:solidFill>
              <a:latin typeface="Arial"/>
            </a:endParaRPr>
          </a:p>
        </p:txBody>
      </p:sp>
      <p:pic>
        <p:nvPicPr>
          <p:cNvPr id="86" name="Picture 6" descr="Wolf.jpg"/>
          <p:cNvPicPr/>
          <p:nvPr/>
        </p:nvPicPr>
        <p:blipFill>
          <a:blip r:embed="rId1"/>
          <a:stretch/>
        </p:blipFill>
        <p:spPr>
          <a:xfrm>
            <a:off x="3348000" y="1844640"/>
            <a:ext cx="2303640" cy="3255840"/>
          </a:xfrm>
          <a:prstGeom prst="rect">
            <a:avLst/>
          </a:prstGeom>
          <a:ln w="0">
            <a:noFill/>
          </a:ln>
        </p:spPr>
      </p:pic>
      <p:sp>
        <p:nvSpPr>
          <p:cNvPr id="87" name="Rectangle 3"/>
          <p:cNvSpPr/>
          <p:nvPr/>
        </p:nvSpPr>
        <p:spPr>
          <a:xfrm>
            <a:off x="1547640" y="5300640"/>
            <a:ext cx="67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a:t>
            </a:r>
            <a:r>
              <a:rPr b="0" lang="en-US" sz="2400" spc="-1" strike="noStrike">
                <a:solidFill>
                  <a:srgbClr val="000099"/>
                </a:solidFill>
                <a:latin typeface="Times New Roman"/>
              </a:rPr>
              <a:t>nick.ward@gla-rrnav.org</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52"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55"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8"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9"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61"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2"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4"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6"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8"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9"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ing the IHO Registry</a:t>
            </a:r>
            <a:endParaRPr b="0" lang="en-US" sz="3600" spc="-1" strike="noStrike">
              <a:solidFill>
                <a:srgbClr val="000000"/>
              </a:solidFill>
              <a:latin typeface="Arial"/>
            </a:endParaRPr>
          </a:p>
        </p:txBody>
      </p:sp>
      <p:sp>
        <p:nvSpPr>
          <p:cNvPr id="71" name=""/>
          <p:cNvSpPr txBox="1"/>
          <p:nvPr/>
        </p:nvSpPr>
        <p:spPr>
          <a:xfrm>
            <a:off x="684360" y="1773000"/>
            <a:ext cx="7772400" cy="439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100 provides the data framework for the development of the next generation of ENC products, as well as other related digital products required by the hydrographic, maritime and GIS comm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online registry has been established for the registration, management and maintenance of the items recognised under the S-100 frame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has applied to establish domains within the Registry for AtoNs, VTS and AIS – others could fol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will also be a Submitting Organ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Nick Ward</cp:lastModifiedBy>
  <dcterms:modified xsi:type="dcterms:W3CDTF">2013-04-09T13:13:43Z</dcterms:modified>
  <cp:revision>103</cp:revision>
  <dc:subject/>
  <dc:title>PowerPoint Presentation</dc:title>
</cp:coreProperties>
</file>